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81636"/>
        <c:axId val="51006220"/>
      </c:barChart>
      <c:catAx>
        <c:axId val="97581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06220"/>
        <c:crosses val="autoZero"/>
        <c:auto val="1"/>
        <c:lblAlgn val="ctr"/>
        <c:lblOffset val="100"/>
        <c:noMultiLvlLbl val="0"/>
      </c:catAx>
      <c:valAx>
        <c:axId val="51006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81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033-9FCF-4F33-AB3A-836131EE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4BA-BCD6-4522-97AA-ADE55903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F30-D609-4101-B16D-E68C969C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DE4-8B0F-45FB-B14D-E1128512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06D-CC1A-4E9D-B4C8-857A98FE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0C1-C9B8-4610-8280-EB00EB77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C1F-06D6-4ACC-994B-611123B0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DDC-F1DD-41FB-9307-B10A8B7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017-DC4B-4272-98EE-B608A3E8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CBE-F67C-4BE4-A567-E6B71AA4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8AA-2967-48EC-A322-525A2F3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4A2-1A8B-4052-922B-44DE10CF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94DA-E1E4-4FDD-9243-749B4A2A9C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