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37787"/>
        <c:axId val="33088270"/>
      </c:barChart>
      <c:catAx>
        <c:axId val="59237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8270"/>
        <c:crosses val="autoZero"/>
        <c:auto val="1"/>
        <c:lblAlgn val="ctr"/>
        <c:lblOffset val="100"/>
        <c:noMultiLvlLbl val="0"/>
      </c:catAx>
      <c:valAx>
        <c:axId val="33088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37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0FE-A0D5-4694-872C-BD938155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AA8-9939-4195-8C66-8117539C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6E7-F57F-443C-9393-14D102E8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B4A-5A97-4C75-8105-DA5D0E44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F08-8135-4EE9-AFC7-13CA3DB5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9EB-C96D-4F63-9AC0-C8E4071F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4D7-A02A-4B37-8802-3D12B0DA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AB0-1D2F-48DE-BF12-35A9BF4F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7AA-46D8-4BE4-A133-909EC76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173-CD5F-4FAE-9D27-C8AB7B5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CC6-8E19-4DF5-87FE-FACE1F95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8DE-8D6C-4620-8F9D-5EFDE01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59C9B-611E-4FB2-98EE-96351B2C24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