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74116"/>
        <c:axId val="70323614"/>
      </c:barChart>
      <c:catAx>
        <c:axId val="22874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23614"/>
        <c:crosses val="autoZero"/>
        <c:auto val="1"/>
        <c:lblAlgn val="ctr"/>
        <c:lblOffset val="100"/>
        <c:noMultiLvlLbl val="0"/>
      </c:catAx>
      <c:valAx>
        <c:axId val="70323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74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D41-B0FC-4501-B001-9C4845AA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CC4-A927-457D-84C7-C86426E2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85B-A4AA-4DE4-95FD-4BED010B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E4F-4243-4348-80DE-72666E4F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D4B-1820-4362-B5C6-12B71C4A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CB5-470E-47AF-8C13-569C463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8D3-FE7E-4AAF-877C-3DC7537C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A4A-28B8-4123-A569-228C0D90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9B9-DFD6-4AD9-8DDD-16DDE80E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EEA-73FB-4106-B11B-8FD7641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482-FD15-4451-A927-9CA7403B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CBF-7C69-436B-86B0-100004B4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9EC90-C3D3-4030-B4A2-FB5B4E784F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