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942763"/>
        <c:axId val="43410259"/>
      </c:barChart>
      <c:catAx>
        <c:axId val="35942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10259"/>
        <c:crosses val="autoZero"/>
        <c:auto val="1"/>
        <c:lblAlgn val="ctr"/>
        <c:lblOffset val="100"/>
        <c:noMultiLvlLbl val="0"/>
      </c:catAx>
      <c:valAx>
        <c:axId val="43410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2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EC1-6DC1-4757-8F48-FBA21611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585-96E1-4556-9CF4-9DAEA396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855-F010-4E75-BB8B-1811108E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FE9-A9D2-4372-AA81-56838E8D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B60-FAD9-45ED-BFED-973EFEB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E52F-A646-4CA4-8B4B-AB61E011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731-7D63-4EE4-ADE0-B52DCBA8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30D8-8D18-48D4-9624-D15DB726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73C-616B-457B-B939-9719A55F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B1F6-6088-4CC4-9262-4D75C80A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B33-C46B-4D1C-BE65-1C6FAA65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2DD-8937-4DAC-9A8E-3C231B46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0ADA9-D58B-432B-A98A-E4E1050C7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