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79848"/>
        <c:axId val="36989187"/>
      </c:barChart>
      <c:catAx>
        <c:axId val="15579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89187"/>
        <c:crosses val="autoZero"/>
        <c:auto val="1"/>
        <c:lblAlgn val="ctr"/>
        <c:lblOffset val="100"/>
        <c:noMultiLvlLbl val="0"/>
      </c:catAx>
      <c:valAx>
        <c:axId val="369891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79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528-2A5D-42C8-A88D-20E802A1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478-CC70-4C39-80A8-80053DF8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138-8A43-4956-8CC0-98AD9265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53B-AE16-4D61-BA9A-90A11349C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C4B-9768-4F0C-8AF7-7A0E67AC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B22-E860-47F9-8258-D932BF72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06C-82B1-400D-9B81-517766E2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6307-2098-49ED-AF17-847FDFFF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8B1A-48FF-476F-9451-4896E8F4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520-7899-4F2D-AC76-4A3E9E01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4F3-A0D6-4F58-A5B0-93D6ACE1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A315-7A77-4F51-B3B2-0D0BF04B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CA5BA-AB34-446F-8F14-9F6FB93DF6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