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580184"/>
        <c:axId val="24213901"/>
      </c:barChart>
      <c:catAx>
        <c:axId val="78580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13901"/>
        <c:crosses val="autoZero"/>
        <c:auto val="1"/>
        <c:lblAlgn val="ctr"/>
        <c:lblOffset val="100"/>
        <c:noMultiLvlLbl val="0"/>
      </c:catAx>
      <c:valAx>
        <c:axId val="242139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80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40A-4B26-41F8-A1A0-4BF5B7B9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3242-1C76-4D42-BAFE-05085B0E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0C81-6F83-4062-A5F1-DEA4F0CC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1D29-FF5D-43F0-A457-E3EDA955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688E-2000-45FA-8004-06B873EC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9EF1-A05C-4326-A5B6-6E337CF3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6475-1846-458F-B463-032AB55A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FC39-D010-4A06-BA6A-DF56C5C8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95C9-9715-4EB9-92C8-E2BA34BE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8DC-C003-4D01-B586-34C19B7D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D93A-575C-46DA-9118-42368663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C50-7D9C-4C92-B4E5-BD1C1C04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3D497-0AB3-4379-A32F-8CD016D3EB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