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95603"/>
        <c:axId val="40904996"/>
      </c:barChart>
      <c:catAx>
        <c:axId val="32095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04996"/>
        <c:crosses val="autoZero"/>
        <c:auto val="1"/>
        <c:lblAlgn val="ctr"/>
        <c:lblOffset val="100"/>
        <c:noMultiLvlLbl val="0"/>
      </c:catAx>
      <c:valAx>
        <c:axId val="40904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95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B90-D889-43EB-9E3B-AF18842E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C68-F31F-4A48-AF60-0612A1E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611-C570-4C24-ADCC-C72FE95F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B7C-261A-4458-B22F-477B132E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849-37F4-4D6E-B160-096B1EFA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3E6-4614-432A-8567-E0223D16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9B0-6336-4B2F-92A9-42BAF6E2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66F-2C3B-4588-8712-B78F1C2F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56A-5D6E-4613-9B8B-2A430BAF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54B5-7959-46C6-981D-560AE059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922-AB0F-4006-82A5-A652B2D2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1C27-38B2-4093-850E-82084BDB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CE3F4-48F5-4F48-B2C7-17EE1EEE0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